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E134-E035-4C6A-B8F5-FBC1A3382C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elicit corrections post-task. The debates could be recorded / filmed for later feedback. Or each group could have a “secretary” to tak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DFF3-5D72-4222-AD5D-1F5015ECAF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“pre-lesson” homework should take 20 – 40 mins, and learners can, of course, go at their own pace and look up as many words / phrases as they like. This could be posted on-line or on a college / school moodle for learners to access before the lesson (see “flipped learning” eg at : http://www.knewton.com/flipped-classroom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2045-59A2-4C9F-B749-1BBC47B84E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2 – 3 hrs: Speaking: 10 – 20 mins; Reading 10 – 20 mins; Vocabulary: 20 – 40 mins; Number work: 20 – 30 mins; Speaking: 20 – 40 mins; Writing: 30 – 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A1E5-0950-49C2-B5CD-546487AC64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mpare the problems they’ve listed from the reading 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4770-0A06-4DE0-A4D8-9095F22012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heck meanings in small groups / with dictionaries, and then discuss possible reasons for these problems. The teacher can monitor for errors and do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72BD-A2C2-44CB-A0B8-81E1624A01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have access to computers / tablets, they can read on-line. Otherwise, the teacher can print out this second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CDCA-2580-4040-B860-CCC6409DA0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, guide and check understanding, especially when learners present their words to th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9B5F-32EB-4206-A46D-BE58E1DAB1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rticle for scales: http://eewiki.newint.org/index.php/The_girls_are_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C4CC-8B95-414E-A869-7982EE6980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make bar charts on paper or on computers if they have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EEB5-D439-4375-8454-4CAB50EB77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4F2-958C-434E-B70B-F618E1EF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0D1-9F2B-4A07-8F94-E148C1F8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D92-2ABF-42F1-8278-D1A1E2CA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9E3-2ED5-4420-904F-913759A2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73F-B83B-4766-BA91-2F963EA0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6EB-E208-4398-B497-A5AD2E39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E5F-3608-48FE-BB95-924F5C55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83E-4BEE-482B-8C1C-45038D81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01F-4604-4798-A3F0-00C9E361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F1C-C548-42E0-AEA4-32082423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EFF-03A6-4D7F-87DF-5469C338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FEB-ED68-48CB-BC0B-62A7B5F0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34F4-54F0-44BE-9A67-BB20456791E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gir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40872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No gir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UPPER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(example of a “flipped” less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56392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111480" y="692280"/>
            <a:ext cx="601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267920"/>
            <a:ext cx="8663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Prepare in pairs for a balanced deb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can we do about the gender imbalanc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notes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sons for these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In small groups, have a formal deb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6212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the same groups, write a letter to the United N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e the problems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clude and explain your bar graphs, 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 poss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826240" y="4437000"/>
            <a:ext cx="291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Learner preparation for the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Easier English article “No girls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gi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(and list) all the proble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Read the original article, by clicking on the link at the bottom – or here: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girls-not-allowed-keynote/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e down 3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ew word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atch this youtube clip on how to draw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r graph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ww.youtube.com/watch?v=0q_9VmQZ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discuss artic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bout solu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2d050"/>
                </a:solidFill>
                <a:latin typeface="Calibri"/>
              </a:rPr>
              <a:t>Vocabular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teach each 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alibri"/>
              </a:rPr>
              <a:t>Numerac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bar 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deb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group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from the text you 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8680" y="3716280"/>
            <a:ext cx="406728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1956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219560" y="3500280"/>
            <a:ext cx="4726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are these problems? And 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y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do they exist?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fantic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eg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x-selective abor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ffic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ild marri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idn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iol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ang r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n withou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ditional view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olutio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think of / predict some solutions, then rea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The_girls_are_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 find more solution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ster readers can then read the original to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the-girls-are-back-in-t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270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,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vocabulary / phrases you found from the texts before the less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ain / discus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eanings, and look at them in the texts (in both the original and the Easier English artic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ach group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es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3 new words / phrases to the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78360" y="4653000"/>
            <a:ext cx="29671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umerac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this graph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814320" y="2357280"/>
            <a:ext cx="6249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make a bar chart to show this information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Normally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5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are born for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 But because of all the change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7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is now the world average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China is the worst, they have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8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born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; India has a national average of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1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. Azerbaijan, has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6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6753240" y="714240"/>
            <a:ext cx="192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5:11:36Z</dcterms:created>
  <dc:creator>Linda Ruas</dc:creator>
  <dc:description/>
  <dc:language>en-US</dc:language>
  <cp:lastModifiedBy>Linda Ruas</cp:lastModifiedBy>
  <dcterms:modified xsi:type="dcterms:W3CDTF">2013-11-02T22:35:56Z</dcterms:modified>
  <cp:revision>15</cp:revision>
  <dc:subject/>
  <dc:title>No more girls</dc:title>
</cp:coreProperties>
</file>